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bomb.wav" ContentType="audio/x-wav"/>
  <Override PartName="/ppt/media/explod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9C9-EDF3-4500-86A2-2A9A7C2B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92A-AF10-46EF-91B2-1E9C3D33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D36-7FD5-4F71-8BDB-12E719B4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572-9277-404D-B49B-72B59FCD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1E7-7475-4B79-BA69-B506DF25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3D8-BE90-4A5C-8539-C5FF5319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0CB-C960-402E-AA47-3C1671F5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033-4C7D-4ED8-BB2A-87107B87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DE9-6067-4581-8CD1-F11A8E1C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2D9-9DFA-4D94-8678-DF93237D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2A5-C491-4CC8-B37A-E73CDE7A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A68-1CC4-4553-B6EE-0E44C2F9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995E-194A-4566-BC33-369B9AE93841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explode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265920" y="33336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day’s Less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68360" y="170028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note down some of the poetic techniques used in the po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copy them up fo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give your own examples of the technique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Consonance</a:t>
            </a:r>
            <a:r>
              <a:rPr b="0" lang="en-GB" sz="4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743280" y="40464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eliberate repetition of consonant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ound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in two or more words in short succ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419640" y="3994200"/>
            <a:ext cx="540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r p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Gl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ur h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eft Arrow 2"/>
          <p:cNvSpPr/>
          <p:nvPr/>
        </p:nvSpPr>
        <p:spPr>
          <a:xfrm>
            <a:off x="2340000" y="429264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eft Arrow 5"/>
          <p:cNvSpPr/>
          <p:nvPr/>
        </p:nvSpPr>
        <p:spPr>
          <a:xfrm>
            <a:off x="2411280" y="5732640"/>
            <a:ext cx="792360" cy="576000"/>
          </a:xfrm>
          <a:prstGeom prst="leftArrow">
            <a:avLst>
              <a:gd name="adj1" fmla="val 50000"/>
              <a:gd name="adj2" fmla="val 50038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906480" y="4437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”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979560" y="58053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”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Sibilance</a:t>
            </a:r>
            <a:r>
              <a:rPr b="0" lang="en-GB" sz="4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095640" y="404640"/>
            <a:ext cx="60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liberate repetition of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 or sh so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n two or more words in short succession. These sounds can be at the beginning, inside, or end of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800" y="6156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203640" y="3068640"/>
            <a:ext cx="55450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 is the verse from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 action="ppaction://hlinksldjump"/>
              </a:rPr>
              <a:t>Edgar Allan Poe'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The Rav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"And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lke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 u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rtain r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ling of each purple curt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tice how the ‘c’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rta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sibilance. It is the s or sh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member that is sibi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why ‘curtain’ wouldn’t be an example of sibilance as it is a ‘k’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776920" y="431316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58520" y="378936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   =   stressed syl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x  =   unstressed syl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012000" y="3646440"/>
            <a:ext cx="2952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263700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Rhythm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140360" y="208080"/>
            <a:ext cx="50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also two main types of syllabl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es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st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es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yllable is the part of the word with two or more syllables in it that is said the loud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63080" y="5553000"/>
            <a:ext cx="90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Peter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Forecas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Never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0" y="51577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2400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/  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x   /   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Structure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92360" y="981000"/>
            <a:ext cx="54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way that the poem is written. It will usually be in little paragraphs, which we cal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ANZA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Look out for where full stops and commas are – they direct you how to read the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hythm and syllables (calle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e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Contrast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19640" y="1484280"/>
            <a:ext cx="54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two or more ideas. This could be the difference (and similarities) between two poems or even two ideas within a po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-1836720" y="2637000"/>
            <a:ext cx="68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Impact"/>
              </a:rPr>
              <a:t>Rhyme Scheme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3200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419640" y="404640"/>
            <a:ext cx="529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st word of a line is given a letter. Each word which rhymes with it is given the same letter. If the word at the end of a line doesn’t rhyme with any others, it is given a new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635280" y="3789360"/>
            <a:ext cx="5184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he ghost wandered through the hall,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attling its chains all the while.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t came to a door and then a wa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Floating through them all in sty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524720" y="3716280"/>
            <a:ext cx="4320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250920" y="170028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96720" y="2852640"/>
            <a:ext cx="81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Tahoma"/>
              </a:rPr>
              <a:t>Metaphor </a:t>
            </a:r>
            <a:r>
              <a:rPr b="0" lang="en-GB" sz="4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5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556000" y="1628640"/>
            <a:ext cx="59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564000" y="549360"/>
            <a:ext cx="511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parison, when one thing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id to be another, not using “as” or “like” to describ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54560" y="414972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man is bigger than a hous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366360" y="5516640"/>
            <a:ext cx="57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e is a real pain in the neck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-31320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ahoma"/>
              </a:rPr>
              <a:t>Simile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132000" y="98100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comparison, using “as” or “lik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771640" y="429264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plump as a cush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700360" y="5445000"/>
            <a:ext cx="54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e’s as skinny as a rak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-2484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ahoma"/>
              </a:rPr>
              <a:t>Alliteration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13200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356000" y="260280"/>
            <a:ext cx="43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n the first letter of two or more words, usually beside each other is repea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140360" y="458136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ntal Mikey made me go ma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-1765440" y="2781360"/>
            <a:ext cx="68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Impact"/>
              </a:rPr>
              <a:t>Onomatopoeia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13200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067280" y="476280"/>
            <a:ext cx="50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a word is written like it sou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788000" y="4149720"/>
            <a:ext cx="500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A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L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-1765440" y="2781360"/>
            <a:ext cx="68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Impact"/>
              </a:rPr>
              <a:t>Personification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13200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67280" y="476280"/>
            <a:ext cx="50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iving human characteristics or behaviours to an inanimate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140360" y="4508640"/>
            <a:ext cx="50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 winked one last time as she set for the da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Rhythm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095640" y="404640"/>
            <a:ext cx="60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number of syllables in each line. Each line should have roughly the same amount as the n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800" y="6156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03640" y="3789360"/>
            <a:ext cx="5545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wind buffets the boulders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hower stalks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grass waves back and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this is nothing to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Assonance 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743280" y="40464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eliberate repetition of consonant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ound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in two or more words in short succ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419640" y="3994200"/>
            <a:ext cx="5400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here’s a m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, l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, ab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 this h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he m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u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’s h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u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eft Arrow 2"/>
          <p:cNvSpPr/>
          <p:nvPr/>
        </p:nvSpPr>
        <p:spPr>
          <a:xfrm>
            <a:off x="2340000" y="429264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eft Arrow 5"/>
          <p:cNvSpPr/>
          <p:nvPr/>
        </p:nvSpPr>
        <p:spPr>
          <a:xfrm>
            <a:off x="2411280" y="6165720"/>
            <a:ext cx="792360" cy="576360"/>
          </a:xfrm>
          <a:prstGeom prst="lef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909360" y="443700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o”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980640" y="6237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”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8:48:34Z</dcterms:created>
  <dc:creator>Darren</dc:creator>
  <dc:description/>
  <dc:language>en-US</dc:language>
  <cp:lastModifiedBy>Darren Gibb</cp:lastModifiedBy>
  <dcterms:modified xsi:type="dcterms:W3CDTF">2012-01-10T20:16:15Z</dcterms:modified>
  <cp:revision>6</cp:revision>
  <dc:subject/>
  <dc:title>Slide 1</dc:title>
</cp:coreProperties>
</file>